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5C37-823D-410B-8762-1A06846D5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F278-E32D-43F3-8365-7CA6B979D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3DDE-9ECD-4F9B-9EF8-816ABDAD1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2C26-912E-4452-A51D-965E10162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C42B-4EF1-46D0-AAE9-0D727396A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0102-96AA-4A55-A4C1-63E4E936F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0A5F-EB2A-4ACA-990B-DA7E3816C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363B-4622-44EC-89E2-891F74FF9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ng – may not be used for the purpose of our learning at CAMPP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0215-6A7B-4314-A83F-440746F10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B0403-F28C-44F8-A6AE-6561C2303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386C-5754-47A5-BA2C-BCE6A0FC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B9109-65C9-4526-843F-B105B22B8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48523-17A7-44FE-89B6-D106D220D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81A1F-0AC3-4EF4-8EE8-228D2F329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C7172-4785-4B05-8445-A00F033B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9092C-1BA1-4D20-BFD9-CA2DA1A64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4D01-5C0F-48AB-9AA5-501699CEB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E0F4A-7C78-4EE3-9331-E7D0FE9CE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7F3C7-BF04-4678-88B4-F55A5C9B5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5E08D-1A34-4603-9ED5-380AF7665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F23E-9EAE-48B2-BE66-7EAD1590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0ABA-BCBE-4C13-B332-32C4C7A06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0B689-E868-4CEB-AEE8-73D8286C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51F4C-FB96-49A8-A8B0-FD6AF59DC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1709B-8D30-4A59-9AE3-0AC21FE35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0DA67-BD8D-42C9-AC37-F260679E7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45F3-C9EA-479D-A326-C076780C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7F4A-D9F4-44C5-AFE9-E38DF559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18AD-C474-41D8-B5C5-0F9F0C9F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CAB6-BA40-48E9-83A7-F3554053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8979-3BAF-42E5-9C76-1CA7D660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3B38-0FD6-4FBD-9CC7-3464EC9C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EC64-6B7A-4FC9-9D76-038B04824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80F1-35BC-4FA2-BD11-F8C8839F7D7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E37E-15DC-47DD-B814-3367C5EA4EA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peak and listen as if this is the most important conversation you will ever have with this pers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5"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6"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roblem named is the problem solved.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confrontation is a search for the truth.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althy relationships include both confrontation and appreciati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8"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9"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each conversation, listen for more than cont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en for emotion and intent as well.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 on your instincts rather than passing them over for fear that you could be wrong or that you might offend.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1"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2"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a leader there is no trivial comm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nversation is not about the relationship; the conversation is the relationship.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rning to deliver the message without the load allows you to speak with clarity, conviction and compassion. </a:t>
            </a:r>
            <a:endParaRPr b="0" lang="en-US" sz="2400" spc="-1" strike="noStrike">
              <a:solidFill>
                <a:srgbClr val="ff0000"/>
              </a:solidFill>
              <a:latin typeface="Arial"/>
            </a:endParaRPr>
          </a:p>
          <a:p>
            <a:pPr marL="27288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5"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a:t>
            </a:r>
            <a:r>
              <a:rPr b="0" i="1" lang="en-CA" sz="2400" spc="-1" strike="noStrike">
                <a:solidFill>
                  <a:srgbClr val="000000"/>
                </a:solidFill>
                <a:latin typeface="Arial"/>
              </a:rPr>
              <a:t>with</a:t>
            </a:r>
            <a:r>
              <a:rPr b="0" lang="en-CA" sz="2400" spc="-1" strike="noStrike">
                <a:solidFill>
                  <a:srgbClr val="000000"/>
                </a:solidFill>
                <a:latin typeface="Arial"/>
              </a:rPr>
              <a:t> people not </a:t>
            </a:r>
            <a:r>
              <a:rPr b="0" i="1" lang="en-CA" sz="2400" spc="-1" strike="noStrike">
                <a:solidFill>
                  <a:srgbClr val="000000"/>
                </a:solidFill>
                <a:latin typeface="Arial"/>
              </a:rPr>
              <a:t>at</a:t>
            </a:r>
            <a:r>
              <a:rPr b="0" lang="en-CA" sz="2400" spc="-1" strike="noStrike">
                <a:solidFill>
                  <a:srgbClr val="000000"/>
                </a:solidFill>
                <a:latin typeface="Arial"/>
              </a:rPr>
              <a:t> them.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morable conversations include breathing spac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 down the conversation so that insight can occur in the space between words.</a:t>
            </a:r>
            <a:endParaRPr b="0" lang="en-US" sz="2400" spc="-1" strike="noStrike">
              <a:solidFill>
                <a:srgbClr val="ff0000"/>
              </a:solidFill>
              <a:latin typeface="Arial"/>
            </a:endParaRPr>
          </a:p>
          <a:p>
            <a:pPr lvl="1" marL="74304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7"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8"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30"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33" name=""/>
          <p:cNvSpPr txBox="1"/>
          <p:nvPr/>
        </p:nvSpPr>
        <p:spPr>
          <a:xfrm>
            <a:off x="323640" y="1988640"/>
            <a:ext cx="8351640" cy="4343400"/>
          </a:xfrm>
          <a:prstGeom prst="rect">
            <a:avLst/>
          </a:prstGeom>
          <a:noFill/>
          <a:ln w="0">
            <a:noFill/>
          </a:ln>
        </p:spPr>
        <p:txBody>
          <a:bodyPr anchor="t">
            <a:normAutofit/>
          </a:bodyPr>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goal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resources with prioriti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collaborative learning cultur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in courageous conversations.</a:t>
            </a:r>
            <a:endParaRPr b="0" lang="en-US" sz="2800" spc="-1" strike="noStrike">
              <a:solidFill>
                <a:srgbClr val="000000"/>
              </a:solidFill>
              <a:latin typeface="Arial"/>
            </a:endParaRPr>
          </a:p>
        </p:txBody>
      </p:sp>
      <p:pic>
        <p:nvPicPr>
          <p:cNvPr id="134" name="" descr=""/>
          <p:cNvPicPr/>
          <p:nvPr/>
        </p:nvPicPr>
        <p:blipFill>
          <a:blip r:embed="rId1"/>
          <a:stretch/>
        </p:blipFill>
        <p:spPr>
          <a:xfrm>
            <a:off x="6961320" y="1341360"/>
            <a:ext cx="193176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36"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pic>
        <p:nvPicPr>
          <p:cNvPr id="137" name="" descr=""/>
          <p:cNvPicPr/>
          <p:nvPr/>
        </p:nvPicPr>
        <p:blipFill>
          <a:blip r:embed="rId1"/>
          <a:stretch/>
        </p:blipFill>
        <p:spPr>
          <a:xfrm>
            <a:off x="3276720" y="1371600"/>
            <a:ext cx="565128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39" name=""/>
          <p:cNvSpPr txBox="1"/>
          <p:nvPr/>
        </p:nvSpPr>
        <p:spPr>
          <a:xfrm>
            <a:off x="684000" y="2276640"/>
            <a:ext cx="8002440" cy="4581360"/>
          </a:xfrm>
          <a:prstGeom prst="rect">
            <a:avLst/>
          </a:prstGeom>
          <a:noFill/>
          <a:ln w="0">
            <a:noFill/>
          </a:ln>
        </p:spPr>
        <p:txBody>
          <a:bodyPr anchor="t">
            <a:normAutofit/>
          </a:bodyPr>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ty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ing and Learning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ment Leadership</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7236000" y="1125360"/>
            <a:ext cx="154764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04640"/>
            <a:ext cx="82296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2" name=""/>
          <p:cNvSpPr txBox="1"/>
          <p:nvPr/>
        </p:nvSpPr>
        <p:spPr>
          <a:xfrm>
            <a:off x="457200" y="1703160"/>
            <a:ext cx="8229600" cy="44161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oring the Leadership Frameworks and Making Connections</a:t>
            </a:r>
            <a:endParaRPr b="0" lang="en-US" sz="28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Capacities of Effective Leadership</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Planning</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M’s PRIME Leadership</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00000" y="1414080"/>
            <a:ext cx="7344000" cy="5327640"/>
          </a:xfrm>
          <a:prstGeom prst="rect">
            <a:avLst/>
          </a:prstGeom>
          <a:noFill/>
          <a:ln w="0">
            <a:noFill/>
          </a:ln>
        </p:spPr>
        <p:txBody>
          <a:bodyPr anchor="t">
            <a:normAutofit/>
          </a:bodyPr>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 we move on, people do not remember us for what we do for ourselves. They remember us for what we do for them. They are the inheritors of our work.</a:t>
            </a:r>
            <a:endParaRPr b="0" lang="en-US" sz="2800" spc="-1" strike="noStrike">
              <a:solidFill>
                <a:srgbClr val="000000"/>
              </a:solidFill>
              <a:latin typeface="Arial"/>
            </a:endParaRPr>
          </a:p>
          <a:p>
            <a:pPr indent="0" algn="ctr">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great joys and grave responsibilities of leaders is making sure that those in their care live lives not only of success, but also of significance.</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04640"/>
            <a:ext cx="82296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4" name=""/>
          <p:cNvSpPr txBox="1"/>
          <p:nvPr/>
        </p:nvSpPr>
        <p:spPr>
          <a:xfrm>
            <a:off x="457200" y="1703160"/>
            <a:ext cx="8291520" cy="48942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your Cabin Buddies… </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lvl="1" marL="63972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ff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250560" y="2060640"/>
            <a:ext cx="8893080" cy="44164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id your group star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part(s) of your map supported you in…</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6" name="Rectangle 2"/>
          <p:cNvSpPr/>
          <p:nvPr/>
        </p:nvSpPr>
        <p:spPr>
          <a:xfrm>
            <a:off x="457200" y="40464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aching Moves Question Stems</a:t>
            </a:r>
            <a:endParaRPr b="0" lang="en-US" sz="4000" spc="-1" strike="noStrike">
              <a:solidFill>
                <a:srgbClr val="0d469b"/>
              </a:solidFill>
              <a:latin typeface="Arial"/>
            </a:endParaRPr>
          </a:p>
        </p:txBody>
      </p:sp>
      <p:sp>
        <p:nvSpPr>
          <p:cNvPr id="14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507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 &amp; Observation</a:t>
            </a:r>
            <a:endParaRPr b="0" lang="en-US" sz="4400" spc="-1" strike="noStrike">
              <a:solidFill>
                <a:srgbClr val="0d469b"/>
              </a:solidFill>
              <a:latin typeface="Arial"/>
            </a:endParaRPr>
          </a:p>
        </p:txBody>
      </p:sp>
      <p:sp>
        <p:nvSpPr>
          <p:cNvPr id="150" name=""/>
          <p:cNvSpPr txBox="1"/>
          <p:nvPr/>
        </p:nvSpPr>
        <p:spPr>
          <a:xfrm>
            <a:off x="456840" y="1904760"/>
            <a:ext cx="84358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join Triad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presents their concept ma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from Triad 2 use coaching moves question stems to elicit reflection of current thinking of concept ma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 from Triad 2 listens to dialogue and records evidence of use of question ste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s switch roles and rep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s share evidence of question stems used and how they inspired further reflection on the part of Triad presen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ine concept map and/or record additional annotations based on dialog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Title 1"/>
          <p:cNvSpPr/>
          <p:nvPr/>
        </p:nvSpPr>
        <p:spPr>
          <a:xfrm>
            <a:off x="457200" y="762120"/>
            <a:ext cx="85075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Home Group Share &amp; Concept Map Refin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ole Group Share</a:t>
            </a:r>
            <a:endParaRPr b="0" lang="en-US" sz="4400" spc="-1" strike="noStrike">
              <a:solidFill>
                <a:srgbClr val="0d469b"/>
              </a:solidFill>
              <a:latin typeface="Arial"/>
            </a:endParaRPr>
          </a:p>
        </p:txBody>
      </p:sp>
      <p:sp>
        <p:nvSpPr>
          <p:cNvPr id="15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 stems did you use?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facilitator / presenters, what did you find valuable / challenging about the question ste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observer, what insights did you gain from the observation of the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things I’ve learned during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questions I still have about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way I see today’s session impacting my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Leaders!</a:t>
            </a:r>
            <a:endParaRPr b="0" lang="en-US" sz="4400" spc="-1" strike="noStrike">
              <a:solidFill>
                <a:srgbClr val="0d469b"/>
              </a:solidFill>
              <a:latin typeface="Arial"/>
            </a:endParaRPr>
          </a:p>
        </p:txBody>
      </p:sp>
      <p:pic>
        <p:nvPicPr>
          <p:cNvPr id="95" name="" descr=""/>
          <p:cNvPicPr/>
          <p:nvPr/>
        </p:nvPicPr>
        <p:blipFill>
          <a:blip r:embed="rId1"/>
          <a:stretch/>
        </p:blipFill>
        <p:spPr>
          <a:xfrm>
            <a:off x="1979640" y="2133720"/>
            <a:ext cx="5184720" cy="39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97" name="" descr=""/>
          <p:cNvPicPr/>
          <p:nvPr/>
        </p:nvPicPr>
        <p:blipFill>
          <a:blip r:embed="rId1"/>
          <a:stretch/>
        </p:blipFill>
        <p:spPr>
          <a:xfrm>
            <a:off x="611280" y="1916280"/>
            <a:ext cx="8084880" cy="4581360"/>
          </a:xfrm>
          <a:prstGeom prst="rect">
            <a:avLst/>
          </a:prstGeom>
          <a:ln w="0">
            <a:noFill/>
          </a:ln>
        </p:spPr>
      </p:pic>
      <p:sp>
        <p:nvSpPr>
          <p:cNvPr id="98" name=""/>
          <p:cNvSpPr/>
          <p:nvPr/>
        </p:nvSpPr>
        <p:spPr>
          <a:xfrm>
            <a:off x="1063800" y="2953440"/>
            <a:ext cx="1527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ike role</a:t>
            </a:r>
            <a:endParaRPr b="0" lang="en-US" sz="2800" spc="-1" strike="noStrike">
              <a:solidFill>
                <a:srgbClr val="000000"/>
              </a:solidFill>
              <a:latin typeface="Arial"/>
            </a:endParaRPr>
          </a:p>
        </p:txBody>
      </p:sp>
      <p:sp>
        <p:nvSpPr>
          <p:cNvPr id="99" name=""/>
          <p:cNvSpPr/>
          <p:nvPr/>
        </p:nvSpPr>
        <p:spPr>
          <a:xfrm>
            <a:off x="6275520" y="2927160"/>
            <a:ext cx="1968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ent roles</a:t>
            </a:r>
            <a:endParaRPr b="0" lang="en-US" sz="2800" spc="-1" strike="noStrike">
              <a:solidFill>
                <a:srgbClr val="000000"/>
              </a:solidFill>
              <a:latin typeface="Arial"/>
            </a:endParaRPr>
          </a:p>
        </p:txBody>
      </p:sp>
      <p:sp>
        <p:nvSpPr>
          <p:cNvPr id="100" name=""/>
          <p:cNvSpPr/>
          <p:nvPr/>
        </p:nvSpPr>
        <p:spPr>
          <a:xfrm>
            <a:off x="917640" y="5014440"/>
            <a:ext cx="1709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nlike role</a:t>
            </a:r>
            <a:endParaRPr b="0" lang="en-US" sz="2800" spc="-1" strike="noStrike">
              <a:solidFill>
                <a:srgbClr val="000000"/>
              </a:solidFill>
              <a:latin typeface="Arial"/>
            </a:endParaRPr>
          </a:p>
        </p:txBody>
      </p:sp>
      <p:sp>
        <p:nvSpPr>
          <p:cNvPr id="101" name=""/>
          <p:cNvSpPr/>
          <p:nvPr/>
        </p:nvSpPr>
        <p:spPr>
          <a:xfrm>
            <a:off x="6340320" y="4974840"/>
            <a:ext cx="1976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ch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2000"/>
                                        <p:tgtEl>
                                          <p:spTgt spid="99"/>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2000"/>
                                        <p:tgtEl>
                                          <p:spTgt spid="100"/>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ard/School Improvement Planning is like….</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t;pictures here&gt;&gt;</a:t>
            </a:r>
            <a:endParaRPr b="0" lang="en-US" sz="2800" spc="-1" strike="noStrike">
              <a:solidFill>
                <a:srgbClr val="ff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to someone new and share your thinking with him / 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ild awareness of various leadership frameworks and explore the interconnections between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has chang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es the plan still make sens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not, what is required of you? Of others?</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0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0"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one has to change, but everyone has to have the conversation.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conversation is real, the change occurs before the conversation is over.</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2"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3"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03:48Z</dcterms:modified>
  <cp:revision>168</cp:revision>
  <dc:subject/>
  <dc:title>Slide 1</dc:title>
</cp:coreProperties>
</file>